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77F9-F771-4A2B-9944-51859A2F9C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you must know what the symbols me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you must know what the symbols me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nd – Find the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nd – Find the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ll you need to do is put the two together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//U //U //U = spondaic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ll you need to do is put the two together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//U //U //U = spondaic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ee if you can guess the following……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note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You know I’ll try to trick you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ee if you can guess the following……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note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You know I’ll try to trick you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AE59-A7D7-4354-B2D2-0C087288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9F10-80C5-4950-AD5B-D03B5989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B44-592E-4587-9010-18B6C1D3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E66-F102-40DF-86CB-11BEE796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7D75-C893-4901-8F4A-9B8EE16B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CC02-340A-49E5-AE6B-3B7042F8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A3CB-AA1E-4019-8A6E-2C9807F6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E94B-3512-46A1-A887-9E3DA2AF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7C9D-B18C-411E-9BF4-BD4A35BD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3F54-3157-440E-AFFA-12434DFF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A3B3-8D8C-46E1-B9BF-3257F6CF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0E97-1BD1-4582-9C1E-000681A8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599B-D3A8-43BD-BC16-DA570139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158A-22EF-402F-88B3-13D09116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4DA8-BEA7-433B-A50E-6344F6B4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DC26-1173-4472-86E1-6BB82F96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FC75-D5FA-4848-9F88-4C6DDC2F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4B1-6316-4BEB-9AB6-7AAD625C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AFC-AB28-4141-BA9F-B089728E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6279-01A1-4C09-9491-52953BFA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D11-9C5B-4440-9CA7-936795D1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AFE3-672F-40EA-8C28-018C6910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7AE-9141-44EE-977A-8BACBD1A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F11C-09EE-4FEB-925E-F5E9A838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3CA0-3CDB-4DC0-A317-DDCF4C6C1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B64D-E430-46E2-B0C5-9F2A64F44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18288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371600" y="228600"/>
            <a:ext cx="7315200" cy="57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you must know what the symbols mean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76520" y="0"/>
            <a:ext cx="7467480" cy="70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2nd – Find the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90720" y="0"/>
            <a:ext cx="8153280" cy="66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ll you need to do is put the two togethe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//U //U //U = spondaic tr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Now see if you can guess the following…….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Use your notes. </a:t>
            </a: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(You know I’ll try to trick you!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4:05:32Z</dcterms:created>
  <dc:creator>Airline High School</dc:creator>
  <dc:description/>
  <dc:language>en-US</dc:language>
  <cp:lastModifiedBy>RomaK</cp:lastModifiedBy>
  <dcterms:modified xsi:type="dcterms:W3CDTF">2015-09-04T10:38:14Z</dcterms:modified>
  <cp:revision>13</cp:revision>
  <dc:subject/>
  <dc:title>rhyme and meter</dc:title>
</cp:coreProperties>
</file>